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media/image6.png" ContentType="image/png"/>
  <Override PartName="/ppt/media/chimes.wav" ContentType="audio/x-wav"/>
  <Override PartName="/ppt/media/image8.png" ContentType="image/png"/>
  <Override PartName="/ppt/media/image4.png" ContentType="image/png"/>
  <Override PartName="/ppt/media/image5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3324F-5CD5-49FF-84B1-CB42D7FC7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4BD54-BBA7-40CF-879C-B08CC6137E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709F4-04D0-4EA9-80DB-50A3829E74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D0405-DE7F-4A91-AFBB-ED77DAB7C9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7BAA8-0872-4DC8-82F4-1A0FCD1911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D16CB-F4BE-4A84-8D43-8F11928AC3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AA3C-C787-4160-AF91-F4965F35D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3B50-BD4B-4D81-9480-19D9CB4B4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00DD-94A6-46F7-89A1-FDDB1D0E7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7C9A-7A0A-4F75-ABFC-2E27C4EC9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F3B38-0431-4A8F-A085-2AE71A314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FF223-647D-4A04-B1FB-355486686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BBABE-CD71-4DF6-B366-DEC0B74E8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15CE4-8443-45FB-B711-98754FFC4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F4760-F7F7-4F01-8399-A2C060C83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A794D-2D21-455D-AFB2-C00E4CE0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B37AD-1A90-41A2-AE7E-FEE5C5AB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E416-81F3-4E99-8092-FDEA58C87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53BB8-29D5-4D61-96FF-6DA45B7E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9A917-5F64-453B-AB98-E3E076FB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78563-437F-48E0-87E6-A15585533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580E4-583A-46E6-942A-E89EEB361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9F168-2CD7-4DDB-9D86-33CB157E5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B496-5EE7-4B6E-9701-D23C89428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2A19-A873-47D5-8D05-CDB0CD21B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ACF9-954A-4A2E-81AF-AB8A7BF36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BF02-3D03-4DB9-BEA3-8196A2020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833B-0BCC-40ED-9D95-101EAB73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9BCC-EE08-463E-9508-FB3085E1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F2CA-0CDE-47C0-B6AB-39944DB4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9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8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2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2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2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2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25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27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28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29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30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34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35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36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37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38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39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40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41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42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43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44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D9D5-39BC-48D8-8ED2-04FC1BCF29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50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5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36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37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38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20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21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22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23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27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8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9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0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31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32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33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34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35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36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37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45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46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43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8E20C-08FE-4606-9000-67384C088CF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JUST THE FACTS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ONQ #1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t the answer on a separate piece of pap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may use your no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 You for following dire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525240"/>
            <a:ext cx="9144000" cy="212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1. What were the two primary grievances the colonists had with England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2"/>
          <a:stretch/>
        </p:blipFill>
        <p:spPr>
          <a:xfrm>
            <a:off x="2209680" y="3406680"/>
            <a:ext cx="4426200" cy="291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525240"/>
            <a:ext cx="9144000" cy="212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2. Who was the president of the Second Continental Congress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2"/>
          <a:stretch/>
        </p:blipFill>
        <p:spPr>
          <a:xfrm>
            <a:off x="2744640" y="3452760"/>
            <a:ext cx="3654720" cy="270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525240"/>
            <a:ext cx="9144000" cy="212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3. According to John Adams, who had the reputation of a “masterly pen?”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85800" y="2819160"/>
            <a:ext cx="7772400" cy="3276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"/>
          <p:cNvPicPr/>
          <p:nvPr/>
        </p:nvPicPr>
        <p:blipFill>
          <a:blip r:embed="rId3"/>
          <a:stretch/>
        </p:blipFill>
        <p:spPr>
          <a:xfrm>
            <a:off x="3048120" y="2908440"/>
            <a:ext cx="2842920" cy="367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4160" y="-76320"/>
            <a:ext cx="8634240" cy="483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4. What delegate to the Second Continental Congress introduced the resolution that the American Colonies should separate themselves from England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2" name="Picture 6" descr=""/>
          <p:cNvPicPr/>
          <p:nvPr/>
        </p:nvPicPr>
        <p:blipFill>
          <a:blip r:embed="rId2"/>
          <a:stretch/>
        </p:blipFill>
        <p:spPr>
          <a:xfrm>
            <a:off x="3886200" y="487692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34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5. What is the meeting of British troops and colonial militia in the towns of Lexington and Concord better known as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2581200" y="3809880"/>
            <a:ext cx="3981600" cy="2635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13:44:01Z</dcterms:created>
  <dc:creator>THOMAS_SAUER</dc:creator>
  <dc:description/>
  <dc:language>en-US</dc:language>
  <cp:lastModifiedBy>SysAdmin</cp:lastModifiedBy>
  <dcterms:modified xsi:type="dcterms:W3CDTF">2012-01-27T16:14:05Z</dcterms:modified>
  <cp:revision>139</cp:revision>
  <dc:subject/>
  <dc:title>D/O: TO EXPLAIN AND IDENTIFY PROBLEMS OF ECONOMICS</dc:title>
</cp:coreProperties>
</file>